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8C79-7511-4214-84C9-2A9B0F41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683-8D3E-40CD-A45D-E33454D5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5DF18-CE36-4595-A556-704F1958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83198-5F48-47D9-8247-944EF4E9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88FEC-823D-4F37-8AED-FA9C5F69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64C8F-6A78-42EB-9692-AAC3F1D8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3009A-3825-422C-8315-34072611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89FD4-C5BB-478C-B92A-A5CF131B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5C4E3-8140-491D-A282-FFCD653B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5EF5A-E046-4D69-AF54-71745080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69654-C30C-486D-BEBD-B0877EE5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72C56-630C-464A-AC79-B03710EE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58B5-9D9F-4FFA-97B6-CCBFC4A5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EAE95-8F6B-4879-855D-AC39CA75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2C43A-EB18-4215-9737-BFA58479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83120-29B9-47ED-B042-8C977CBD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479AC-6B5E-4BF7-BE5C-6AB4CCB1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90C83-F438-4121-9901-2713EF55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76AEB-0551-414E-B5C5-6A57B5FC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160C3-EA91-415F-BD71-53709E54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FB993-CA49-4567-8455-07CFF316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6AB6D-52A5-41A8-9B8F-B04C0960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1AF86-75DF-4D1F-9B3A-402E4C89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B07-24DF-4A2F-8FDB-5E379F78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27F81-CA0E-4268-8735-C9A5636D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7ED5E-4F96-44AA-B64F-4BE8327E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F3DED-6CB1-46B6-B9AD-A20B719F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424F6-4275-4646-B757-53C509CE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BB2E9-7561-4B06-87D4-9E64D5D4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884C3-77E6-43A5-AA8D-8600E8E4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A4CA9-FD43-4B35-BFE6-1F40ECCE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752CC-E540-4FE6-AD11-9F936591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31413-C96A-4014-9478-07877AED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DDF0B-10A0-480A-BDAB-12BE5070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FB06-5593-43B3-B8FE-84B9C61E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C4799-28EC-439A-851D-614AE13A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F312B-003D-47FB-8141-ACD3E5B7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8E1C0-7E43-4476-A608-E7AF088D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CC86D-3894-442C-AC6D-8F2C8D74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15D93-1683-4A37-97A9-630371F0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3CBC9-7F1F-4D2A-AA67-8DCF0F67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6BCFF-B6CC-4480-8AA7-4A94C033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706A1-48AC-47A1-9438-31968394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4BEDE-9564-4388-B8E1-FBA25E2F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51859-62DD-4EB8-A14A-54D66C54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62B4-E8A5-4E10-A136-CAA5382B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16F53-6924-46E2-B64C-07A23B57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E3655-E4EA-4E9C-AD85-6CEBA2D1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8961E-710E-42CC-BAB8-C062E69B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95FE9-3D20-4BA5-B365-61D563F6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5941E-B1C7-425E-89D2-7052BB90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2D03-4681-486D-8568-F6E1D871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6A7E-9DA5-48DA-93F1-2512691A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84A1-3FA5-4572-9C98-583D4FE1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C29C-D6F8-48C1-A0BD-6EE1B554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2597-7284-46EC-AA9B-51F0FFDF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D2D-0676-4509-8476-110B4CFC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B340-BC0B-4AA9-B52D-24D09A99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8568-65EF-4CF2-BE21-262C4805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7A64-AFDF-49D5-BB69-D1F27FE5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92C4-B0AD-4432-9F61-B5EB3DB8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5315-05E0-4C96-9EA4-714B4ED9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41888-0A52-4DEA-AA35-03FACCB9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455E6-B56C-4F30-847E-34FFDCD8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8D517-2506-4B9D-9253-2202F6FB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CA8E7-C544-4711-9059-64CDB52D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A5AC6-2E19-42E0-9B11-4748FB9E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EA7-C1D2-460E-9FB3-0D962476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A5423-185F-4639-8350-9790A7A4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B9A48-76AB-40DE-90EE-468886B8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6111A-19C1-40B5-8798-FA9B6D3D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8128F-EAD1-4E4B-8444-C9220192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CCE04-6AE0-4EA8-8217-701E51E3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4AFAA-AAAD-44C8-A75B-1A268634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9EB42-771D-4994-AF1E-89C23D0D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ED075-650C-43E6-B37B-D1D948B6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91CD3-6E06-485B-B65E-350FE30A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0017E-34AE-47D7-89D7-247E5D5D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EF68-F17A-4396-B70B-ADC23406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C6839-49AF-4A88-B319-ABA3A9EB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FE7D7-B96C-4A05-99F2-4EDE946B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50FC8-8D6A-4C80-BDB8-1AD7B2D4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2BCA6-F744-4294-9964-242CF141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E2DA5-AF6B-46F1-8821-7A2EC8FE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08D7F-9176-4DDB-B678-8626C2E1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8CE2A-1D2F-4331-9579-06317463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56815-7799-4520-A559-7762E08A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18738-0215-4465-90FC-499A48C8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CBB33-810D-4F8A-8031-9802E238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D296-DA4E-4301-AF3F-078DF759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D07D7-3398-4761-AEF5-8AB22223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574EF-E33C-4C40-92D4-333F6D96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9669C-F06E-4A57-B448-DE282A89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F2B1F-125D-475C-B810-4B69037A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ECAC5-7C3F-4094-BA4E-0C0D4AEE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97EE9-260E-430C-A727-81F0C65A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74E6D-AC19-4D6E-AB1E-0A0F09FB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04185-C00C-49B3-BCE3-CC6ACAB9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E15F5-084C-490E-B241-5BB2FC8A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E2088-7A1E-4A2A-B3DE-C0635F9D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270F-5B88-40B5-A4F9-FEC84634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4966E-F42A-423D-8F82-74FDC6B1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F1F1F-87B8-4186-BE87-E1EE3425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35FCE-7637-4D5C-8328-8C240DFA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3AE5E-2F33-4074-BD5E-98853363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670D0-FACF-4079-B7AF-3EB45950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BE8A2-A3AA-4980-BFD6-A4449C17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0FB7E-48F7-4D3B-B855-B0FCC449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A7BF6-28CE-4AC7-9434-7DBFB822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553FB-B953-4482-8D65-1FCD5A52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50EF4-50FC-43D1-8180-13685F32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7328-1380-4AD5-A486-7C377B29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58DFA-EABF-40D7-8ACA-29AC4CC9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D20D1-C845-41ED-93DB-C7F68C7C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B9CEE-C737-4E52-BEDB-0724CC9A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661A5-9D9B-4DE6-B819-2F5FEEDA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F493E-ED58-44C9-9B66-B0FA0198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72856-63B6-47F5-9B96-A583C673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0801D-59DD-474F-9D3D-F0651DB5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73DA6-803A-48C2-B3F9-10954601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0E799-C514-4E10-9A06-693B5CD2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48A69-E8F3-485F-921A-750F8F88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15B3-1C57-4374-9B61-5E337AA4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D4425-F3B8-4D06-9227-4EE36F8B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57A95-5736-4209-9BFD-9752B6D5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5F38C-829F-4471-8790-0E31F26A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E4D37-D4A9-46A1-857B-DF37F256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3C020-CA2D-402B-BCD9-C0331BD1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86DEF-BD6E-48A1-A6DA-46FC0806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2BAD2-F0B1-4BF4-BAC3-335BDE65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9EA52-8494-4F08-8917-38EA6A62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DF6C3-7AA8-406D-91F3-4BF37FC5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3AA6C-930D-4C77-8AF7-80ADE3CB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E89-26B4-4E21-9835-E09F5A0C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2A7AC-3654-459C-80BF-8AC10A91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6C917-015A-4CD1-B07B-10275DA0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3D215-5952-4D1F-97AC-583E2621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01FC0-89A7-44BC-AAB1-439A0357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4C7DC-5B59-4031-8367-02CDE613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8CE58-F1CE-4DE2-B904-414EA312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0DD96-CB52-4AF9-91D2-FF74F46E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12E31-BAAA-4499-89B8-90DED537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19755-8888-42D0-9852-1ACA1A9B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4E6D1-AA3A-4819-914D-3DE2E4E0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74A0-7999-47F5-8B81-A16DFAC929B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631D-E0AF-4D1A-A060-6464DE3673A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1E39-2DB4-46E2-9B6E-3587334CE0F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5147-9383-4EF6-A17F-470638A0DC2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C718-7C9D-4403-93EF-45DA09C56FB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472F-1458-49C7-8298-055C56A5595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BA70-B4AA-4574-BBF5-F603A68041C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6C99-01A6-4AAB-9D36-CA326598054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4E85-4313-4D73-A6E2-406DE44027F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39C2-D712-4986-9570-48C982FCFED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6AEA-849D-41DC-9AB0-E88DC4F9596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34F8-7FBF-4522-8F52-17E0EF7E48A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23 Znie lásky Božej hl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nie lásky Božej hlas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ď dieťa, ku mne poď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pút hriechu, kým je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 mne sa osloboď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aj za môj hrie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alich trestu p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stejší som ako sne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ám ma vykúp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ebe, Pane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spásu ďakuje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celý život svo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i do rúk zveruj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aj za môj hrie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alich trestu p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stejší som ako sne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ám ma vykúp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nikdy nesplat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lh svoj, to, Pane, v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ak v lásky zajat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navždy zosta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aj za môj hrie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alich trestu p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stejší som ako sne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ám ma vykúp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prídeš v sláve k n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vziať ľud verný sv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všetko rád ti vzd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esť, chválu, Pane mô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aj za môj hrie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alich trestu p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stejší som ako sne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ám ma vykúpil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2-18T18:56:29Z</dcterms:modified>
  <cp:revision>21</cp:revision>
  <dc:subject/>
  <dc:title>Je veľký náš Pán, on slávy je Kráľ Nech do všetkých strán  spev vrúcnych znie chvál.</dc:title>
</cp:coreProperties>
</file>